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AACA14-3C57-4F08-B51C-ADB26DF2B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AD350C-7865-4CA6-9BC4-D3CFEC4C0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6DEE59-F223-485C-A37B-1B4D7B95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be need professional learning on ck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929749-2357-4651-84C8-0973099DF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585135-9B26-4B52-ACAC-CDB4590E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CAB196-59F1-42BF-BCC8-B2C16C3A3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EF85BA-5A33-4F84-9154-C204AFCD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DC99D4-E858-477F-B2F6-4860AD245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127B6A-D52B-4FF3-BC4A-79666476E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973E80-4A8A-4EBA-8832-5122597BA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F04299-878A-4296-BA56-302B43FE7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2A5E61-FAA4-4EDD-8BE7-144E97AB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E86FA2-83BF-4A0F-A4CD-7E15B5787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177394-51EB-49FA-B21D-122A97230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4724BC-50DB-4568-8AD9-5B34462F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DEC304-A562-4065-978D-931D40A97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F7B5B1-A539-4F2D-9A3D-46F6E7B05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2EAB615-510A-43DB-8C2F-45FD13FD3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E3C36D-0AFD-4F98-A817-E6D870CC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1A98B1-86D6-4BAF-BA92-354333891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78E4FA-77AF-4962-8C54-F7A629BB7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are going to explore how anticipating student difficulties can affect our lesson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37329D-400B-43EF-828C-F9A057F1D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D7AA20-4E25-4694-8502-55E0D1E1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7953FA-20C4-421C-A1F1-9FF37F81E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51C3C3-0C7C-44F5-A416-F6FF4C9A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6E90AE-1B02-4962-83C0-BF741EBD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B73C0A7-9D82-4988-950F-A003F48B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164173-11DD-4497-AB9A-E9D63226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02D71C-E17F-4754-8ADF-C7AB75ABC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E0355A-7F20-4081-997B-9AA5E773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453693-EAE4-40DC-8256-1C01101DD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1331A6-34A2-4F2E-80F9-10B6F610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7901E4-AA43-4A09-8DFC-2538245C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54CD84-D8D4-411C-AF1D-9CA0548D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F17AE3-079C-4110-8D9F-C08482345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8F7-52AC-42B9-957D-909FD294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72B-2025-4549-A333-F72FD0DA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257-5249-4277-9213-95988CD9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D12-31BC-4871-8D34-6F92100B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8C4B-9D56-4EC4-9239-9E890481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FC0E-CB88-4189-8C85-41F6E6AF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C799-3FCB-4B51-A4C8-D5753C19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390-6C48-46A6-AF8E-40AAE550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8F16-2279-4FCC-9700-1D2FA522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66B3-B6DB-4FC3-BFD2-36E6FF53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92B7-277B-4047-A1AA-17E4656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9D6-C815-4F60-912B-A3438C76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46DC-2BC8-419E-993D-3012BA99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6E52-213D-414A-9D3D-883AE7FB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A4D0-02DC-4D46-9606-40940681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BB89-5D64-4B08-8F8F-E41493C9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F228-A685-48E9-BDE2-C3318E7F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1C5-7968-4A89-8044-0EAD7FFC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AD0-052D-4A94-98FA-9F355F2E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B9D-49D2-479D-B7F4-E65F0712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565-8CF5-4658-BD5A-A76E45C1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92D-7F16-439A-9DB3-B3DBDA0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2DC-7EA0-45B2-95B5-DAB8D2E7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F59-7B79-4596-960A-2D83E92C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4C63-C419-4AA3-880B-F081C398579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504F-D5D8-4A42-B04A-D80230EEB83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3505320" y="5105520"/>
            <a:ext cx="441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Arial Unicode MS"/>
              </a:rPr>
              <a:t>Plenary 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ummer Institute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009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under Bay</a:t>
            </a:r>
            <a:endParaRPr b="0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700000" y="3933720"/>
            <a:ext cx="5715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BLM2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81080"/>
            <a:ext cx="78739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stead of reciting a curriculum expectation as a goal: solve problems involving percents expressed to … whole-number percents greater than 100%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F610-4742-47F4-B18D-9358F58FA3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1676520"/>
            <a:ext cx="82296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goal could be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71DF-3EE6-45BF-A5C4-37F280482D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981080"/>
            <a:ext cx="795024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goal could be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A646-BF90-4B2D-BB36-F851206A29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4300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1447920"/>
            <a:ext cx="80010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goal could be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7EFF-4D88-4340-AB13-9C3692E5FF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Why you want                   to do this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1BF0-8526-43C1-999B-80C1769C51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09480" y="2133720"/>
            <a:ext cx="78742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3E7A-12AD-48FA-989B-A379063E0A5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0666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1752480"/>
            <a:ext cx="76975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tated goals ar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FD4C-FBAA-42ED-B64E-63CDA3949FE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90720" y="43434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patterning concep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 a growing patter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re multiple representation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0498-0099-4EAD-A267-57B19CAB4C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Picture 1.pn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2B82-A78E-49C1-9953-E45E073E31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Picture 2.png"/>
          <p:cNvPicPr/>
          <p:nvPr/>
        </p:nvPicPr>
        <p:blipFill>
          <a:blip r:embed="rId1"/>
          <a:stretch/>
        </p:blipFill>
        <p:spPr>
          <a:xfrm>
            <a:off x="0" y="1952640"/>
            <a:ext cx="9144000" cy="29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676520" y="51055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 “right way” to formulate the construction of  ter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CEB7-E6EC-4485-B503-6F8CE93288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Picture 3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395280" y="2708280"/>
            <a:ext cx="8353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the limitations of recursive represen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533520" y="2057400"/>
            <a:ext cx="7567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ing the validity of all represen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0" y="3500280"/>
            <a:ext cx="9883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e students to move on from recursive represent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Setting Lesson Goal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5203-E47C-43C9-A6BD-80BC11027F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B824-F7DE-4C2D-99E5-5A15CC5ED9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CA6C-4990-4EB1-A902-23C61DA979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0666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62120" y="1752480"/>
            <a:ext cx="7697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tated goals ar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4A2F-0824-47CC-95F4-AC7A825D98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90720" y="27432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patterning concep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 a growing patter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re multiple representation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9051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goal could be about recognizing when it’s useful to use a generalization when describing a patte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0641-B5D8-4D77-86BA-56E3B7E6D2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685800" y="685800"/>
            <a:ext cx="73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the closing ask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95280" y="1863720"/>
            <a:ext cx="83818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BAF1-A510-41C5-9EB5-192B2DB919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09480" y="2362320"/>
            <a:ext cx="8229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have handed out a list of stated goals BLM 2.2 taken from a series of lessons on linear equations in a grade 9 tex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7D52-F656-4641-ACB8-315B0B4453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Activ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21337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ake 2 of these goals and focus them to relate more explicitly to one or more of the big ideas. To do thi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81C1-73E4-4E7E-BD9D-9385AEE901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Work with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43000" y="228600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least 2 new colleagues. Be ready to share. You may use the provided BLM 2.1 models to help you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13AD-B4D1-4065-B7D3-BD68E788FC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09480" y="8380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190512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k with the same colleagues to write consolidating questions for two of those goals that would bring them into the spotlight for student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29CC-5B48-4AF0-98B6-00E5A68656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First word/last wo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286000"/>
            <a:ext cx="769644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t in a group with 3 other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of you begins and asks the next perso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8BE4-D250-4EEB-B4A1-C1220F46F0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8380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Remembe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8288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solidating questions are a way to see if students have met the goal. They are not “exercises”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662-640F-4670-8FE0-69C7FBB42E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6212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57200" y="1828800"/>
            <a:ext cx="83059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st your goal and associated consolidating question beside the appropriate Big Idea elicite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782B-E857-4CAB-BE3F-2DC78C84E3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33520" y="236232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t’s do a gallery walk looking at the questions that were create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CED9-6DC6-461A-BE1C-A3EFC80EB5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219320" y="129528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Anticipating problems– impact on lesson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87FB-6783-4A4D-879A-C429CD5901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6094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Suppos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600200"/>
            <a:ext cx="83059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2E9A-A7E1-40ED-AF77-F5C3BCB8A1B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3520" y="1600200"/>
            <a:ext cx="795024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0E32-6253-40D5-BB4E-905B833BEB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6094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1828800"/>
            <a:ext cx="795024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r initial goal relates to one on the list I shared with you. Which on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w let’s make a list of a “top 5” anticipated problems. Keep the lis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52EC-FCE1-40FB-8F26-F974817D76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0492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1523880"/>
            <a:ext cx="83818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goal for one or two subsequent less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DAE3-13F8-43E4-950F-1102360ECB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Then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1828800"/>
            <a:ext cx="80773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oose one of those new goals you decided upo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question might you ask at the end of the problem discussion to get at that goa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13F6-4954-4E55-A52A-018F0238BA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522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7200" y="1828800"/>
            <a:ext cx="83059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are your thoughts with another pai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re you surprised, or not, at the different directions the other pair took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CFD5-66E1-42B3-A2A4-E6FC28F3AB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5146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are important things to think about when creating a lesson goa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3E5E-586B-4D93-B4BE-D4791C7EC4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3808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80880" y="17524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colleague suggests s/he just doesn’t have the time to personalize the goal and then anticipate student problems;  s/he’ll just deal with them as they aris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5D8-2CFB-44B1-B330-902752CD1E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09480" y="1752480"/>
            <a:ext cx="77979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ole play with a partner. Play critical friend and convince the person otherwis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erse roles and play agai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932F-8803-4271-A15E-50F519DA7E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2209680"/>
            <a:ext cx="8026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at person replies, then the next, the next, and then it goes back to the start – that person gets the last wor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A43B-D1EF-433D-BA0A-DA57353608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5800" y="2362320"/>
            <a:ext cx="8153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was the most interesting idea you heard during this minds-on activit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5E61-44CE-4EEC-ABAF-588A1B73BF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19320" y="214956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5BF-2A23-4866-808D-1BFF8115D9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143000" y="21337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at includes knowing why you have that goa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’s the point of i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AC3E-6DD6-4D36-A0C4-C68F443687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2209680"/>
            <a:ext cx="77979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1C13-38AE-4F09-BBC3-39341FB8EE0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4:10:23Z</dcterms:created>
  <dc:creator>Peel District School Board</dc:creator>
  <dc:description/>
  <dc:language>en-US</dc:language>
  <cp:lastModifiedBy>Kathy Kubota-Zarivnij</cp:lastModifiedBy>
  <dcterms:modified xsi:type="dcterms:W3CDTF">2009-08-20T18:05:37Z</dcterms:modified>
  <cp:revision>28</cp:revision>
  <dc:subject/>
  <dc:title>Coaching for Math GAINS Professional Learning</dc:title>
</cp:coreProperties>
</file>